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F87-534E-4E38-8BA1-FE25C05A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A5C-B131-4DF1-9FB0-A0D8EDCF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A7F-B588-4746-86AE-6D5490FD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00E-8A26-4BA9-AF1C-210F96A9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14D3-3C5E-45B8-95E6-7D9311D5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A0D1-DB96-4CED-94C1-84A8C256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2EA9-C8DB-4806-956F-FE8DEB9E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09BE-7902-4591-9C49-A0FDDD8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306-8531-4F0F-8EBF-A72944E0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5E1C-1D4B-4511-BFBA-B7D8030F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A1B0-61B3-4980-ABD1-CA62A25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73F-1E9C-406B-8615-4B8C3536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0FE6-86C8-4B11-97AA-23F9F3C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D514-15E4-446E-92BA-5190A76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140C-676B-415F-8AD3-FC92551C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830E-6144-44DC-AA43-1BF9F1EB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5643-C66C-4C00-8516-59BB79FC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90B0-8D41-4E72-A8D8-439208A1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6A50-6FAF-4721-8E41-AC22395A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6A19-F967-4F83-A63A-80E6AED6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5FF73-D78B-4D7C-B3A8-1DF0CB0F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2ECB-3DC0-4B80-BEC8-88D4770E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022-0B62-4BEA-B919-0DF75334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51E1-9675-42E3-99EA-C30B1D86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778A-E632-4F48-90D2-4C62E107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8C37-0683-4C1C-9542-1626E83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D18B-2722-4050-B93D-4C3DF85B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7062-4C2B-4E72-94B9-92B28021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EAB0-A34D-4285-83C6-8E11445D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612C-A883-4ED3-9AD4-65902804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A8AC-9386-41EA-B528-714BA26E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A1B82-B1C6-401C-B142-137EE450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7ADE-DA64-4B8B-BE90-254B225D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6DD-578B-4BC8-9402-C1CFF001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52EAC-6FF6-4787-82ED-9E719DE7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3EAC6-2806-49D0-8530-674D66E5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4EA3-91EC-4946-AB91-F6160A97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09EAF-6CA2-4A38-A57F-FC0FB5C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C4925-9A25-4747-97DF-27F88210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F016-E337-4AD0-A6F5-D5D4286E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2A34-C019-49B5-8371-748071AB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1796F-5459-46D1-A49F-CE858776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E1DC-9BE6-43E7-B067-EDB54D7E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71173-0EA7-4695-BFA8-49E6CA6D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158-1698-45D9-BBDF-4588F4E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EABBE-AE1E-48EF-A542-0BEA8A34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C8D3-5D78-4AFA-BEF2-FB8BCF52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9086-6EF0-4168-B314-11CF2017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1E496-3FAE-4E9C-9D18-D704C7EF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9439-C861-4C63-8D1E-C6269A0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1610-01B0-4BFC-A2FE-B55157D4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EAA32-B4D4-4608-9B4E-6C4D6F6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A92B-E3C6-43AD-9F91-37669B12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81EF5-C252-4E0F-BE23-8AE6DE1D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DF198-7492-4D50-B4FE-F28A6760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C2E-FDE5-43BF-BCEE-D3BAA6B4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170E4-B673-453A-A0BC-D4834D21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F59-9047-4BD7-9D36-5A42BF2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5EB-CD19-4BF3-B55A-6583ED4B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36F-FE40-40C0-99D0-04FE4CE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6373-5A56-4AD9-AC0F-BD373DA8C9FF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057C-7793-4B6D-9A6B-333E8E8225AF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E0A-41F3-48DD-8D92-5936633E24B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EBA9-044C-477B-8D90-8E90E8160F6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E3BE-C3BC-48F4-8072-B13F3EF94B0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800080"/>
                </a:solidFill>
                <a:latin typeface="Corbel"/>
              </a:rPr>
              <a:t>Начинается урок,</a:t>
            </a:r>
            <a:br>
              <a:rPr sz="6000"/>
            </a:br>
            <a:r>
              <a:rPr b="0" lang="ru-RU" sz="6000" spc="-1" strike="noStrike">
                <a:solidFill>
                  <a:srgbClr val="800080"/>
                </a:solidFill>
                <a:latin typeface="Corbel"/>
              </a:rPr>
              <a:t>Приготовься-ка дружок!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457200" y="2298600"/>
            <a:ext cx="80042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44800" y="2438280"/>
            <a:ext cx="20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 это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762840" y="243828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снование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9" name="Line 5"/>
          <p:cNvSpPr/>
          <p:nvPr/>
        </p:nvSpPr>
        <p:spPr>
          <a:xfrm flipV="1">
            <a:off x="3124080" y="1828440"/>
            <a:ext cx="10414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590920" y="228600"/>
            <a:ext cx="440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6019920" y="2514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 это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5792040" y="251460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казатель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H="1" flipV="1">
            <a:off x="4952880" y="1447560"/>
            <a:ext cx="18288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2973600" y="3429000"/>
            <a:ext cx="346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66"/>
                </a:solidFill>
                <a:latin typeface="Arial"/>
              </a:rPr>
              <a:t>=3*3*3*3*3*3*3</a:t>
            </a:r>
            <a:endParaRPr b="0" lang="en-US" sz="3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2441880" y="4267080"/>
            <a:ext cx="43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Тр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дьмой степен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2440800" y="49528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Т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кубе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2441880" y="5791320"/>
            <a:ext cx="30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Т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квадрате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288" name="Group 22"/>
          <p:cNvGrpSpPr/>
          <p:nvPr/>
        </p:nvGrpSpPr>
        <p:grpSpPr>
          <a:xfrm>
            <a:off x="3962520" y="838080"/>
            <a:ext cx="1314360" cy="1505160"/>
            <a:chOff x="3962520" y="838080"/>
            <a:chExt cx="1314360" cy="1505160"/>
          </a:xfrm>
        </p:grpSpPr>
        <p:sp>
          <p:nvSpPr>
            <p:cNvPr id="289" name="AutoShape 21"/>
            <p:cNvSpPr/>
            <p:nvPr/>
          </p:nvSpPr>
          <p:spPr>
            <a:xfrm>
              <a:off x="3962520" y="838080"/>
              <a:ext cx="131436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90" name="Rectangle 23"/>
            <p:cNvSpPr/>
            <p:nvPr/>
          </p:nvSpPr>
          <p:spPr>
            <a:xfrm>
              <a:off x="4182840" y="1192320"/>
              <a:ext cx="53100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500" spc="-1" strike="noStrike">
                  <a:solidFill>
                    <a:srgbClr val="c0c0c0"/>
                  </a:solidFill>
                  <a:latin typeface="Arial"/>
                </a:rPr>
                <a:t>3</a:t>
              </a:r>
              <a:endParaRPr b="0" lang="en-US" sz="7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91" name="Rectangle 24"/>
            <p:cNvSpPr/>
            <p:nvPr/>
          </p:nvSpPr>
          <p:spPr>
            <a:xfrm>
              <a:off x="4147920" y="1155600"/>
              <a:ext cx="53100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5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7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92" name="Rectangle 25"/>
            <p:cNvSpPr/>
            <p:nvPr/>
          </p:nvSpPr>
          <p:spPr>
            <a:xfrm>
              <a:off x="4690800" y="950760"/>
              <a:ext cx="37548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3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53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grpSp>
        <p:nvGrpSpPr>
          <p:cNvPr id="293" name="Group 32"/>
          <p:cNvGrpSpPr/>
          <p:nvPr/>
        </p:nvGrpSpPr>
        <p:grpSpPr>
          <a:xfrm>
            <a:off x="2514600" y="3200400"/>
            <a:ext cx="793800" cy="907920"/>
            <a:chOff x="2514600" y="3200400"/>
            <a:chExt cx="793800" cy="907920"/>
          </a:xfrm>
        </p:grpSpPr>
        <p:sp>
          <p:nvSpPr>
            <p:cNvPr id="294" name="AutoShape 31"/>
            <p:cNvSpPr/>
            <p:nvPr/>
          </p:nvSpPr>
          <p:spPr>
            <a:xfrm>
              <a:off x="2514600" y="3200400"/>
              <a:ext cx="7938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95" name="Rectangle 33"/>
            <p:cNvSpPr/>
            <p:nvPr/>
          </p:nvSpPr>
          <p:spPr>
            <a:xfrm>
              <a:off x="2647080" y="341316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c0c0c0"/>
                  </a:solidFill>
                  <a:latin typeface="Arial"/>
                </a:rPr>
                <a:t>3</a:t>
              </a:r>
              <a:endParaRPr b="0" lang="en-US" sz="4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96" name="Rectangle 34"/>
            <p:cNvSpPr/>
            <p:nvPr/>
          </p:nvSpPr>
          <p:spPr>
            <a:xfrm>
              <a:off x="2624760" y="339084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2954160" y="32702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grpSp>
        <p:nvGrpSpPr>
          <p:cNvPr id="298" name="Group 37"/>
          <p:cNvGrpSpPr/>
          <p:nvPr/>
        </p:nvGrpSpPr>
        <p:grpSpPr>
          <a:xfrm>
            <a:off x="1600200" y="4038480"/>
            <a:ext cx="793800" cy="908280"/>
            <a:chOff x="1600200" y="4038480"/>
            <a:chExt cx="793800" cy="908280"/>
          </a:xfrm>
        </p:grpSpPr>
        <p:sp>
          <p:nvSpPr>
            <p:cNvPr id="299" name="AutoShape 36"/>
            <p:cNvSpPr/>
            <p:nvPr/>
          </p:nvSpPr>
          <p:spPr>
            <a:xfrm>
              <a:off x="1600200" y="4038480"/>
              <a:ext cx="79380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1733040" y="425124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c0c0c0"/>
                  </a:solidFill>
                  <a:latin typeface="Arial"/>
                </a:rPr>
                <a:t>3</a:t>
              </a:r>
              <a:endParaRPr b="0" lang="en-US" sz="4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01" name="Rectangle 39"/>
            <p:cNvSpPr/>
            <p:nvPr/>
          </p:nvSpPr>
          <p:spPr>
            <a:xfrm>
              <a:off x="1710720" y="422892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2039760" y="410832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grpSp>
        <p:nvGrpSpPr>
          <p:cNvPr id="303" name="Group 42"/>
          <p:cNvGrpSpPr/>
          <p:nvPr/>
        </p:nvGrpSpPr>
        <p:grpSpPr>
          <a:xfrm>
            <a:off x="1600200" y="4800600"/>
            <a:ext cx="785880" cy="900360"/>
            <a:chOff x="1600200" y="4800600"/>
            <a:chExt cx="785880" cy="900360"/>
          </a:xfrm>
        </p:grpSpPr>
        <p:sp>
          <p:nvSpPr>
            <p:cNvPr id="304" name="AutoShape 41"/>
            <p:cNvSpPr/>
            <p:nvPr/>
          </p:nvSpPr>
          <p:spPr>
            <a:xfrm>
              <a:off x="1600200" y="4800600"/>
              <a:ext cx="7858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728000" y="501480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c0c0c0"/>
                  </a:solidFill>
                  <a:latin typeface="Arial"/>
                </a:rPr>
                <a:t>3</a:t>
              </a:r>
              <a:endParaRPr b="0" lang="en-US" sz="4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06" name="Rectangle 44"/>
            <p:cNvSpPr/>
            <p:nvPr/>
          </p:nvSpPr>
          <p:spPr>
            <a:xfrm>
              <a:off x="1707480" y="499284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07" name="Rectangle 45"/>
            <p:cNvSpPr/>
            <p:nvPr/>
          </p:nvSpPr>
          <p:spPr>
            <a:xfrm>
              <a:off x="2036160" y="48690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grpSp>
        <p:nvGrpSpPr>
          <p:cNvPr id="308" name="Group 47"/>
          <p:cNvGrpSpPr/>
          <p:nvPr/>
        </p:nvGrpSpPr>
        <p:grpSpPr>
          <a:xfrm>
            <a:off x="1609560" y="5562720"/>
            <a:ext cx="852120" cy="975960"/>
            <a:chOff x="1609560" y="5562720"/>
            <a:chExt cx="852120" cy="975960"/>
          </a:xfrm>
        </p:grpSpPr>
        <p:sp>
          <p:nvSpPr>
            <p:cNvPr id="309" name="AutoShape 46"/>
            <p:cNvSpPr/>
            <p:nvPr/>
          </p:nvSpPr>
          <p:spPr>
            <a:xfrm>
              <a:off x="1609560" y="5562720"/>
              <a:ext cx="852120" cy="9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1746720" y="579492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c0c0c0"/>
                  </a:solidFill>
                  <a:latin typeface="Arial"/>
                </a:rPr>
                <a:t>3</a:t>
              </a:r>
              <a:endParaRPr b="0" lang="en-US" sz="4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11" name="Rectangle 49"/>
            <p:cNvSpPr/>
            <p:nvPr/>
          </p:nvSpPr>
          <p:spPr>
            <a:xfrm>
              <a:off x="1724400" y="577080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5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12" name="Rectangle 50"/>
            <p:cNvSpPr/>
            <p:nvPr/>
          </p:nvSpPr>
          <p:spPr>
            <a:xfrm>
              <a:off x="2082240" y="563652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orbel"/>
              </a:rPr>
              <a:t>1) Доделать закладку-шпаргалк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orbel"/>
              </a:rPr>
              <a:t>2) № 55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orbel"/>
              </a:rPr>
              <a:t>3) 10</a:t>
            </a:r>
            <a:r>
              <a:rPr b="0" lang="ru-RU" sz="2200" spc="-1" strike="noStrike" baseline="30000">
                <a:solidFill>
                  <a:srgbClr val="660066"/>
                </a:solidFill>
                <a:latin typeface="Corbel"/>
              </a:rPr>
              <a:t>3</a:t>
            </a:r>
            <a:r>
              <a:rPr b="0" lang="ru-RU" sz="2200" spc="-1" strike="noStrike">
                <a:solidFill>
                  <a:srgbClr val="660066"/>
                </a:solidFill>
                <a:latin typeface="Corbel"/>
              </a:rPr>
              <a:t> – (10</a:t>
            </a:r>
            <a:r>
              <a:rPr b="0" lang="ru-RU" sz="2200" spc="-1" strike="noStrike" baseline="30000">
                <a:solidFill>
                  <a:srgbClr val="660066"/>
                </a:solidFill>
                <a:latin typeface="Corbel"/>
              </a:rPr>
              <a:t>2</a:t>
            </a:r>
            <a:r>
              <a:rPr b="0" lang="ru-RU" sz="2200" spc="-1" strike="noStrike">
                <a:solidFill>
                  <a:srgbClr val="660066"/>
                </a:solidFill>
                <a:latin typeface="Corbel"/>
              </a:rPr>
              <a:t> + 10) = 890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orbel"/>
              </a:rPr>
              <a:t>Проанализируйте ответ в выражении и продолжите сказку:</a:t>
            </a:r>
            <a:r>
              <a:rPr b="0" lang="ru-RU" sz="2200" spc="-1" strike="noStrike">
                <a:solidFill>
                  <a:srgbClr val="660066"/>
                </a:solidFill>
                <a:latin typeface="Corbel"/>
              </a:rPr>
              <a:t> «Жили – были 4 брата: Сложение, Вычитание, Умножение и Деление. Были они очень дружны и каждый из них знал своё место. Однажды в гости к ним пришла старшая сестра Степень. Завели они спор, кто теперь из них главнее…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2" descr=""/>
          <p:cNvPicPr/>
          <p:nvPr/>
        </p:nvPicPr>
        <p:blipFill>
          <a:blip r:embed="rId1"/>
          <a:stretch/>
        </p:blipFill>
        <p:spPr>
          <a:xfrm>
            <a:off x="426960" y="2968560"/>
            <a:ext cx="82900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orbel"/>
              </a:rPr>
              <a:t>Упростите выражение и найдите его знач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1852200"/>
            <a:ext cx="8686800" cy="440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+5+5+5 =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 · 4 =20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+6+6+6+6 =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 · 5= 30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0+10+10+10+10+10+10+10+10+10 =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0·10= =100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+4+4+4+4+4 =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 · 6= 24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952 -0.01042 L 0.27118 -0.0831 E">
                                      <p:cBhvr>
                                        <p:cTn id="9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753 -0.00162 L 0.32048 -0.07638 E">
                                      <p:cBhvr>
                                        <p:cTn id="16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611 -0.00648 L 0.63611 -0.0787 E">
                                      <p:cBhvr>
                                        <p:cTn id="23" dur="2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861 -0.00116 L 0.32361 -0.06759 E">
                                      <p:cBhvr>
                                        <p:cTn id="30" dur="2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91856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0" spc="-1" strike="noStrike">
                <a:solidFill>
                  <a:srgbClr val="0d0d0d"/>
                </a:solidFill>
                <a:latin typeface="Corbel"/>
              </a:rPr>
              <a:t>Найдите значение выражения  </a:t>
            </a:r>
            <a:br>
              <a:rPr sz="5000"/>
            </a:br>
            <a:br>
              <a:rPr sz="6000"/>
            </a:br>
            <a:r>
              <a:rPr b="1" lang="ru-RU" sz="8000" spc="-1" strike="noStrike">
                <a:solidFill>
                  <a:srgbClr val="0d0d0d"/>
                </a:solidFill>
                <a:latin typeface="Corbel"/>
              </a:rPr>
              <a:t>2 ∙ 2 ∙ 2 ∙ 2 ∙ 2 ∙ 2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8240" y="585720"/>
            <a:ext cx="72900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orbel"/>
              </a:rPr>
              <a:t>Сегодня на уроке м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67880" y="1980720"/>
            <a:ext cx="776628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учимся записывать короче произведение одинаковых множител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учим новое арифметическое действ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знаем как оно называется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записывается и читается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им по порядку выполняется в числовых выражениях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Corbel"/>
              </a:rPr>
              <a:t>Произведение, в котором все множители равны друг другу также можно записать короче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Прямоугольник 1" descr=""/>
          <p:cNvPicPr/>
          <p:nvPr/>
        </p:nvPicPr>
        <p:blipFill>
          <a:blip r:embed="rId1"/>
          <a:stretch/>
        </p:blipFill>
        <p:spPr>
          <a:xfrm>
            <a:off x="1450800" y="3048120"/>
            <a:ext cx="60962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391520" cy="792000"/>
          </a:xfrm>
          <a:prstGeom prst="rect">
            <a:avLst/>
          </a:prstGeom>
          <a:solidFill>
            <a:srgbClr val="ffccff"/>
          </a:solidFill>
          <a:ln w="9360">
            <a:solidFill>
              <a:srgbClr val="212121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orbe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3951360" y="1185840"/>
                <a:ext cx="9349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Line 18"/>
          <p:cNvSpPr/>
          <p:nvPr/>
        </p:nvSpPr>
        <p:spPr>
          <a:xfrm flipH="1">
            <a:off x="3428640" y="229860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228600" y="3048120"/>
            <a:ext cx="358128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снование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>
            <a:off x="4724280" y="16765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4648320" y="3048120"/>
            <a:ext cx="358128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казатель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1998720" y="4071960"/>
            <a:ext cx="4172040" cy="960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4"/>
              <p:cNvSpPr txBox="1"/>
              <p:nvPr/>
            </p:nvSpPr>
            <p:spPr>
              <a:xfrm>
                <a:off x="2019240" y="4167360"/>
                <a:ext cx="934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7880" y="585360"/>
            <a:ext cx="807084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едините  линиями выражения, соответствующие друг другу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) 5+5+5+5                             а)  5</a:t>
            </a:r>
            <a:r>
              <a:rPr b="0" lang="ru-RU" sz="3100" spc="-1" strike="noStrike" baseline="30000">
                <a:solidFill>
                  <a:srgbClr val="000000"/>
                </a:solidFill>
                <a:latin typeface="Corbel"/>
              </a:rPr>
              <a:t>4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) 6 ∙ 6 ∙ 6                               б)  5∙4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) 5 ∙ 5 ∙ 5 ∙ 5                          в)  6</a:t>
            </a:r>
            <a:r>
              <a:rPr b="0" lang="ru-RU" sz="3100" spc="-1" strike="noStrike" baseline="30000">
                <a:solidFill>
                  <a:srgbClr val="000000"/>
                </a:solidFill>
                <a:latin typeface="Corbel"/>
              </a:rPr>
              <a:t>3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) 7+7+7+7+7                        г) 7 ∙ 5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) 6+6+6                                 д) 7</a:t>
            </a:r>
            <a:r>
              <a:rPr b="0" lang="ru-RU" sz="3100" spc="-1" strike="noStrike" baseline="30000">
                <a:solidFill>
                  <a:srgbClr val="000000"/>
                </a:solidFill>
                <a:latin typeface="Corbel"/>
              </a:rPr>
              <a:t>5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) 7 ∙ 7 ∙ 7 ∙ 7 ∙ 7                    е) 6 ∙ 3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265" name="Прямая со стрелкой 4"/>
          <p:cNvCxnSpPr/>
          <p:nvPr/>
        </p:nvCxnSpPr>
        <p:spPr>
          <a:xfrm>
            <a:off x="3161880" y="2819520"/>
            <a:ext cx="2134440" cy="457920"/>
          </a:xfrm>
          <a:prstGeom prst="straightConnector1">
            <a:avLst/>
          </a:prstGeom>
          <a:ln cap="rnd"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Прямая со стрелкой 6"/>
          <p:cNvCxnSpPr/>
          <p:nvPr/>
        </p:nvCxnSpPr>
        <p:spPr>
          <a:xfrm>
            <a:off x="2933640" y="3261960"/>
            <a:ext cx="2363040" cy="572040"/>
          </a:xfrm>
          <a:prstGeom prst="straightConnector1">
            <a:avLst/>
          </a:prstGeom>
          <a:ln cap="rnd"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Прямая со стрелкой 8"/>
          <p:cNvCxnSpPr/>
          <p:nvPr/>
        </p:nvCxnSpPr>
        <p:spPr>
          <a:xfrm flipV="1">
            <a:off x="3276360" y="2818800"/>
            <a:ext cx="2019960" cy="1067400"/>
          </a:xfrm>
          <a:prstGeom prst="straightConnector1">
            <a:avLst/>
          </a:prstGeom>
          <a:ln cap="rnd" w="93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8" name="Прямая со стрелкой 10"/>
          <p:cNvCxnSpPr/>
          <p:nvPr/>
        </p:nvCxnSpPr>
        <p:spPr>
          <a:xfrm>
            <a:off x="3447720" y="4495320"/>
            <a:ext cx="1848600" cy="1080"/>
          </a:xfrm>
          <a:prstGeom prst="straightConnector1">
            <a:avLst/>
          </a:prstGeom>
          <a:ln cap="rnd" w="93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Прямая со стрелкой 12"/>
          <p:cNvCxnSpPr/>
          <p:nvPr/>
        </p:nvCxnSpPr>
        <p:spPr>
          <a:xfrm>
            <a:off x="2933280" y="4932360"/>
            <a:ext cx="2172600" cy="621000"/>
          </a:xfrm>
          <a:prstGeom prst="straightConnector1">
            <a:avLst/>
          </a:prstGeom>
          <a:ln cap="rnd"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0" name="Прямая со стрелкой 14"/>
          <p:cNvCxnSpPr/>
          <p:nvPr/>
        </p:nvCxnSpPr>
        <p:spPr>
          <a:xfrm flipV="1">
            <a:off x="3657240" y="4981320"/>
            <a:ext cx="1639080" cy="59112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944640"/>
          </a:xfrm>
          <a:prstGeom prst="rect">
            <a:avLst/>
          </a:prstGeom>
          <a:solidFill>
            <a:srgbClr val="ffccff"/>
          </a:solidFill>
          <a:ln w="381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Вторая степень числа называется квадратом числа!!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2" name="Rectangle 9" descr=""/>
          <p:cNvPicPr/>
          <p:nvPr/>
        </p:nvPicPr>
        <p:blipFill>
          <a:blip r:embed="rId1"/>
          <a:stretch/>
        </p:blipFill>
        <p:spPr>
          <a:xfrm>
            <a:off x="2365200" y="1828800"/>
            <a:ext cx="525492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2"/>
          <p:cNvSpPr/>
          <p:nvPr/>
        </p:nvSpPr>
        <p:spPr>
          <a:xfrm>
            <a:off x="152280" y="2971800"/>
            <a:ext cx="8839440" cy="944640"/>
          </a:xfrm>
          <a:prstGeom prst="rect">
            <a:avLst/>
          </a:prstGeom>
          <a:solidFill>
            <a:srgbClr val="ff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етья степень числа называется кубом числа!!!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74" name="Rectangle 25" descr=""/>
          <p:cNvPicPr/>
          <p:nvPr/>
        </p:nvPicPr>
        <p:blipFill>
          <a:blip r:embed="rId2"/>
          <a:stretch/>
        </p:blipFill>
        <p:spPr>
          <a:xfrm>
            <a:off x="2133720" y="4724280"/>
            <a:ext cx="5260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8240" y="585720"/>
            <a:ext cx="72900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orbel"/>
              </a:rPr>
              <a:t>Сегодня на уроке м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7880" y="1980720"/>
            <a:ext cx="776628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Научились записывать короче произведение одинаковых множител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Изучили новое арифметическое действ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Узнали как оно называется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Как записывается и читается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5. Каким по порядку выполняется в числовых выражениях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Галина Глухих</cp:lastModifiedBy>
  <dcterms:modified xsi:type="dcterms:W3CDTF">2016-12-22T16:32:12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